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E70-0606-421D-872D-3A621191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3FC-AC53-494A-81E4-B87B977A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8FF-7E4E-4639-851F-A370EB01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EF1-13E6-42EA-B082-8E22EF76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478-D027-4430-8242-F657C436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EC5-D9B5-44B1-A745-EAB71BC8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7A7-3860-4FF9-BD83-D426FF99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EFF-BF51-4A39-98EF-B0C585D5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C9D-96C4-4E45-A3D6-A1A42DA9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A85-6646-4541-AE41-94A867FE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721-8AA1-4C39-9D3C-D158A783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373-A0C2-48AA-A3BB-A3F3E964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CD8D-0CDC-4034-B65B-2108C02D5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56113" b="38926"/>
          <a:stretch/>
        </p:blipFill>
        <p:spPr>
          <a:xfrm>
            <a:off x="3124080" y="106668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28600" y="2286000"/>
            <a:ext cx="274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 into Learning.c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name: I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ssword:?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: Round Rock IS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the opening page select “View My Classes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roll New Students in the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back to “Enroll Student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the box next to the student’s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on “Enroll Selecte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ster and  Login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0" t="0" r="53333" b="58731"/>
          <a:stretch/>
        </p:blipFill>
        <p:spPr>
          <a:xfrm>
            <a:off x="457200" y="2514600"/>
            <a:ext cx="6400800" cy="2971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304920" y="121932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-in cards can be created to handout to students.  This will have their Name, Username, Password, and District information needed to login to the computer. A pdf file is generated with all the logi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838080" y="5943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 in Cards may not be necessary as the login is their ID number and password is  school number + ID numb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62920" y="2514600"/>
            <a:ext cx="167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nt Roster will give you a list  of all users with usernames and passwor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28333" t="0" r="556" b="51944"/>
          <a:stretch/>
        </p:blipFill>
        <p:spPr>
          <a:xfrm>
            <a:off x="0" y="198108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ify School Acco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33520" y="5791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S’ have access to all schools so be sure to work within your own campu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a Class for the Stu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0" t="0" r="81113" b="65960"/>
          <a:stretch/>
        </p:blipFill>
        <p:spPr>
          <a:xfrm>
            <a:off x="304920" y="12952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rcRect l="0" t="6008" r="84446" b="61958"/>
          <a:stretch/>
        </p:blipFill>
        <p:spPr>
          <a:xfrm>
            <a:off x="380880" y="4114800"/>
            <a:ext cx="2133720" cy="2438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124080" y="1447920"/>
            <a:ext cx="5791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on My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on the Desk Icon to  create the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Your class in the field provided: ex.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and click “add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fill in the descriptions, as they are preset and nothing you type in will matter in the long run.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 the Assess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0" t="0" r="44446" b="13955"/>
          <a:stretch/>
        </p:blipFill>
        <p:spPr>
          <a:xfrm>
            <a:off x="838080" y="768240"/>
            <a:ext cx="70866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14444" t="0" r="22780" b="15894"/>
          <a:stretch/>
        </p:blipFill>
        <p:spPr>
          <a:xfrm>
            <a:off x="0" y="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 Sur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609480" y="12193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indow will pop-up saying you have one event left to schedule, would you like to schedule it now.  This is the survey – click to schedule and return to the main assessment scre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16113" t="44059" r="52780" b="26906"/>
          <a:stretch/>
        </p:blipFill>
        <p:spPr>
          <a:xfrm>
            <a:off x="1676520" y="2514600"/>
            <a:ext cx="4267080" cy="2209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819520" y="4952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Survey if you would like to give thi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 Stu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0" t="0" r="58890" b="50941"/>
          <a:stretch/>
        </p:blipFill>
        <p:spPr>
          <a:xfrm>
            <a:off x="1295280" y="1447920"/>
            <a:ext cx="67057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Stu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14444" t="0" r="1667" b="60956"/>
          <a:stretch/>
        </p:blipFill>
        <p:spPr>
          <a:xfrm>
            <a:off x="0" y="2362320"/>
            <a:ext cx="9145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ing a New Stud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14444" t="9011" r="66669" b="76977"/>
          <a:stretch/>
        </p:blipFill>
        <p:spPr>
          <a:xfrm>
            <a:off x="3429000" y="1143000"/>
            <a:ext cx="259092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36760" y="129528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on “Add New Student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rcRect l="15000" t="12952" r="35003" b="34981"/>
          <a:stretch/>
        </p:blipFill>
        <p:spPr>
          <a:xfrm>
            <a:off x="304920" y="2209680"/>
            <a:ext cx="685800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91440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Save” or “Save and Add Another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9:13:13Z</dcterms:created>
  <dc:creator>youngr</dc:creator>
  <dc:description/>
  <dc:language>en-US</dc:language>
  <cp:lastModifiedBy>youngr</cp:lastModifiedBy>
  <dcterms:modified xsi:type="dcterms:W3CDTF">2012-03-30T15:10:07Z</dcterms:modified>
  <cp:revision>125</cp:revision>
  <dc:subject/>
  <dc:title>Slide 1</dc:title>
</cp:coreProperties>
</file>